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C9BD3-94D4-47B9-8CF7-E9784FEB0C5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мвол Израиля, основа герба Груз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5631E-2CB4-40DA-A96A-7233B984535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E31A-1421-4786-BF4D-F1BA2E428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10C1-C0AC-4716-B26E-30A8FBAC0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A699-28A5-41A5-BFF8-507FE8621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6A10-F5D4-4C20-A0C1-5C2D9234D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35C5C-ED16-47DE-873D-16C146DE9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06CBE-8B7E-4E9F-A23B-ED74AF01F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A7913-C0A5-43E6-A280-53D599FC3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57680-F159-4D61-9D81-903F4B3D7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F4329-D7DF-4F87-8F43-24E2676B4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1EBE8-2933-4238-B152-D43B8B64A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A9E6B-C710-47C6-8D07-E2762DE5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B275-3F3A-4094-B5E3-3F73C2690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81151-39D0-4BB8-9FF3-5E98DACD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09527-B225-4DBB-8FF3-28E52021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7845A-D7B2-4F8D-812E-F34A7298D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F0328-A33C-4BD1-ABC7-DFE111F90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6C528-BCA1-41B1-B475-F97E4EA78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D7CF7-653B-4A31-A7B9-F3793F83A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9664E-830C-4350-8284-FB4B2EB30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042A5-A22A-449E-B9CA-97AF1F7EC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51EF0-72CE-450F-93EA-BA57B76D5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37C00-EE1D-47D3-9DF8-F0E55A32F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78C3-2B50-4C96-A562-066A32140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6EC93-DA11-4FBC-9545-942281E46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1317B-419F-4ED2-9BA2-D6CB6442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9AE02-8A8F-46F9-ACC9-31FA93C1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375A3-A473-4B41-979C-B340CE5C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329C2-76A6-458F-A65A-CB1628024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3F22E-3E8F-4A2D-87F1-EBAF1AC7B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84A42-390B-4B04-8DE2-662CBE763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BA1CC-E30E-4788-ACFA-FBC6B2680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25F7D-CD13-48E5-9C47-9A86A9968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7A1D6-3D43-4C2E-8B41-33648466B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BB74-A240-47D8-AC4E-CBA14D7C5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1E577-C7CD-4F85-8C8D-81813D4E4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D6BD2-0E42-4944-AF6C-5D8BD6E04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D311E-5C8F-4CF2-A589-158700C3A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CFBDC-2F33-4397-9DFF-2E9ACB40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F2F5B-57A0-4D94-AF62-CA878E4D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84B36-0146-48FC-8CDD-740EEBD5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2A6ED-3679-412B-9F42-E307CD72E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ADA9B-26CD-4DA2-B8D3-2D2EA498B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C48BC-2099-440A-A91C-EC9200FBD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D9D0B-FCA8-4732-A256-1973C1428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765C-C0F5-4B18-A21A-43A1FA304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66E3B-6D71-4480-BDAF-2C7DA7241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30125-DA14-47EB-945C-91B0FBE90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BBA65-2011-4CDC-A8AD-1478A9608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4885E-24D4-459B-A354-077BA1D49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F1830-A840-4C50-AB5D-6D724CC5B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85405-A7E4-4A72-B3A3-410B9D32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41D54-63F1-4612-8D78-C81D5594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98CDF-00C4-4B91-8F1F-79D174E6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22080-E8C5-4E25-999E-CE42A03F7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02B12-D8CC-4082-B40C-0259DB97D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6F5B-360F-4075-99C8-0248525D8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6CEB5-3230-4764-8D15-5FEB50183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2ABB4-C04F-4522-B1B4-10B860267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BB42AA-5497-4780-945C-07B0E2DFD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DBC8C-C0BA-4342-8C81-613F2D9ED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1FC19-0223-41F5-8C56-3A7B04E40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CA8B3-A62B-4683-A7EA-68DC438FA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F44B5-4447-45AF-A2ED-DED5DDDBE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2308D-6A77-4C71-B481-5AE47497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E4785-A232-45BD-9274-4A0D5E30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EF757-58EC-4E6B-B035-6BC73FE3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E5B0-3401-4E6D-813A-BBA8C716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D4FD0-F37B-4CE5-A610-8A0FE487C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47440-1FC6-4D65-8051-4B10B6934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81295-EE87-492A-9BDB-C18BB00FA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03C8F6-51A7-445A-A394-F4B124842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92000-FFF4-4AB2-B15C-519C11018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0CC39-52EE-40D6-91D7-05ED8ACE0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4225BB-E660-4C3F-BB00-BA2CA9905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A94B11-B6B4-43C1-A023-DFCBBC578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1D6C3-258E-4F7C-B467-7A1E751B0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F79149-F0E9-42F6-B8C3-B05DD088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9D52-F571-4372-B3B6-24F25D7F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0B041-65D9-4467-A505-BB7B083C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70489-30E4-428B-883A-4D3873F1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C89EA-00B5-49E5-BA5C-39CF64476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AC6EA-BA95-47AF-BE5B-B4ECC2354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5D5DE8-2672-4C3B-BE25-D49DFD752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8999-9D7F-4B99-9650-746EAD8C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63E03-39C0-4520-8B90-EDA541FA2769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91613-BE5C-4DE7-BF84-18881024A8BC}" type="slidenum">
              <a:rPr b="0" lang="ru-R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22035-2427-48F1-B971-2544DF04D71A}" type="slidenum">
              <a:rPr b="0" lang="ru-R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098D1-D48F-472E-8FA9-9E51AF552688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ECC52-A482-421B-A581-95249BAEB3A1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5DB90-39EA-434A-8E61-532A4DA1026C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7081E-1E3A-4BC9-BE85-FA93B4CDAB71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Заголовок 1" descr=""/>
          <p:cNvPicPr/>
          <p:nvPr/>
        </p:nvPicPr>
        <p:blipFill>
          <a:blip r:embed="rId1"/>
          <a:stretch/>
        </p:blipFill>
        <p:spPr>
          <a:xfrm>
            <a:off x="390600" y="3157560"/>
            <a:ext cx="8381880" cy="187812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28760" y="5357520"/>
            <a:ext cx="807696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ни исследования учеников 8 класса: Кошкин Артем и Пышкина Наталья (циркули)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Заголовок 1" descr=""/>
          <p:cNvPicPr/>
          <p:nvPr/>
        </p:nvPicPr>
        <p:blipFill>
          <a:blip r:embed="rId1"/>
          <a:stretch/>
        </p:blipFill>
        <p:spPr>
          <a:xfrm>
            <a:off x="195120" y="146160"/>
            <a:ext cx="849816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Заголовок 1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4645080"/>
          </a:xfrm>
          <a:prstGeom prst="rect">
            <a:avLst/>
          </a:prstGeom>
          <a:ln w="0">
            <a:noFill/>
          </a:ln>
        </p:spPr>
      </p:pic>
      <p:pic>
        <p:nvPicPr>
          <p:cNvPr id="314" name="Рисунок 2" descr="г.jpeg"/>
          <p:cNvPicPr/>
          <p:nvPr/>
        </p:nvPicPr>
        <p:blipFill>
          <a:blip r:embed="rId2"/>
          <a:stretch/>
        </p:blipFill>
        <p:spPr>
          <a:xfrm>
            <a:off x="3772080" y="2717640"/>
            <a:ext cx="1600200" cy="1422720"/>
          </a:xfrm>
          <a:prstGeom prst="rect">
            <a:avLst/>
          </a:prstGeom>
          <a:ln w="0">
            <a:noFill/>
          </a:ln>
        </p:spPr>
      </p:pic>
      <p:pic>
        <p:nvPicPr>
          <p:cNvPr id="315" name="Рисунок 3" descr="л.jpeg"/>
          <p:cNvPicPr/>
          <p:nvPr/>
        </p:nvPicPr>
        <p:blipFill>
          <a:blip r:embed="rId3"/>
          <a:stretch/>
        </p:blipFill>
        <p:spPr>
          <a:xfrm>
            <a:off x="6429240" y="3357720"/>
            <a:ext cx="2306880" cy="1571400"/>
          </a:xfrm>
          <a:prstGeom prst="rect">
            <a:avLst/>
          </a:prstGeom>
          <a:ln w="0">
            <a:noFill/>
          </a:ln>
        </p:spPr>
      </p:pic>
      <p:pic>
        <p:nvPicPr>
          <p:cNvPr id="316" name="Рисунок 4" descr="п.jpeg"/>
          <p:cNvPicPr/>
          <p:nvPr/>
        </p:nvPicPr>
        <p:blipFill>
          <a:blip r:embed="rId4"/>
          <a:stretch/>
        </p:blipFill>
        <p:spPr>
          <a:xfrm>
            <a:off x="6215040" y="5357880"/>
            <a:ext cx="1803600" cy="1041480"/>
          </a:xfrm>
          <a:prstGeom prst="rect">
            <a:avLst/>
          </a:prstGeom>
          <a:ln w="0">
            <a:noFill/>
          </a:ln>
        </p:spPr>
      </p:pic>
      <p:pic>
        <p:nvPicPr>
          <p:cNvPr id="317" name="Рисунок 5" descr="р.jpeg"/>
          <p:cNvPicPr/>
          <p:nvPr/>
        </p:nvPicPr>
        <p:blipFill>
          <a:blip r:embed="rId5"/>
          <a:stretch/>
        </p:blipFill>
        <p:spPr>
          <a:xfrm>
            <a:off x="449280" y="4608360"/>
            <a:ext cx="3408480" cy="21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Заголовок 1" descr=""/>
          <p:cNvPicPr/>
          <p:nvPr/>
        </p:nvPicPr>
        <p:blipFill>
          <a:blip r:embed="rId1"/>
          <a:stretch/>
        </p:blipFill>
        <p:spPr>
          <a:xfrm>
            <a:off x="165240" y="146160"/>
            <a:ext cx="86500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Заголовок 1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6374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500" spc="-1" strike="noStrike">
              <a:solidFill>
                <a:srgbClr val="ffc800"/>
              </a:solidFill>
              <a:latin typeface="Corbel"/>
            </a:endParaRPr>
          </a:p>
        </p:txBody>
      </p:sp>
      <p:pic>
        <p:nvPicPr>
          <p:cNvPr id="321" name="Рисунок 2" descr="Dodecahedron and Pentagonal Star.jpg"/>
          <p:cNvPicPr/>
          <p:nvPr/>
        </p:nvPicPr>
        <p:blipFill>
          <a:blip r:embed="rId1"/>
          <a:srcRect l="17968" t="6156" r="17968" b="6151"/>
          <a:stretch/>
        </p:blipFill>
        <p:spPr>
          <a:xfrm>
            <a:off x="1000080" y="1428840"/>
            <a:ext cx="700092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Заголовок 1" descr=""/>
          <p:cNvPicPr/>
          <p:nvPr/>
        </p:nvPicPr>
        <p:blipFill>
          <a:blip r:embed="rId1"/>
          <a:stretch/>
        </p:blipFill>
        <p:spPr>
          <a:xfrm>
            <a:off x="255600" y="73080"/>
            <a:ext cx="8437680" cy="1334880"/>
          </a:xfrm>
          <a:prstGeom prst="rect">
            <a:avLst/>
          </a:prstGeom>
          <a:ln w="0">
            <a:noFill/>
          </a:ln>
        </p:spPr>
      </p:pic>
      <p:pic>
        <p:nvPicPr>
          <p:cNvPr id="323" name="Рисунок 2" descr="0_e068_93ce4ef2_XL.jpeg"/>
          <p:cNvPicPr/>
          <p:nvPr/>
        </p:nvPicPr>
        <p:blipFill>
          <a:blip r:embed="rId2"/>
          <a:stretch/>
        </p:blipFill>
        <p:spPr>
          <a:xfrm>
            <a:off x="0" y="1357200"/>
            <a:ext cx="5286240" cy="3953160"/>
          </a:xfrm>
          <a:prstGeom prst="rect">
            <a:avLst/>
          </a:prstGeom>
          <a:ln w="0">
            <a:noFill/>
          </a:ln>
        </p:spPr>
      </p:pic>
      <p:pic>
        <p:nvPicPr>
          <p:cNvPr id="324" name="Рисунок 3" descr="cfoto.png"/>
          <p:cNvPicPr/>
          <p:nvPr/>
        </p:nvPicPr>
        <p:blipFill>
          <a:blip r:embed="rId3"/>
          <a:stretch/>
        </p:blipFill>
        <p:spPr>
          <a:xfrm>
            <a:off x="0" y="4881600"/>
            <a:ext cx="1976400" cy="1976400"/>
          </a:xfrm>
          <a:prstGeom prst="rect">
            <a:avLst/>
          </a:prstGeom>
          <a:ln w="0">
            <a:noFill/>
          </a:ln>
        </p:spPr>
      </p:pic>
      <p:pic>
        <p:nvPicPr>
          <p:cNvPr id="325" name="Рисунок 4" descr="flagThumb.jpeg"/>
          <p:cNvPicPr/>
          <p:nvPr/>
        </p:nvPicPr>
        <p:blipFill>
          <a:blip r:embed="rId4"/>
          <a:stretch/>
        </p:blipFill>
        <p:spPr>
          <a:xfrm>
            <a:off x="5286240" y="4643280"/>
            <a:ext cx="3429000" cy="2214720"/>
          </a:xfrm>
          <a:prstGeom prst="rect">
            <a:avLst/>
          </a:prstGeom>
          <a:ln w="0">
            <a:noFill/>
          </a:ln>
        </p:spPr>
      </p:pic>
      <p:pic>
        <p:nvPicPr>
          <p:cNvPr id="326" name="Рисунок 5" descr="geo-ax2.png"/>
          <p:cNvPicPr/>
          <p:nvPr/>
        </p:nvPicPr>
        <p:blipFill>
          <a:blip r:embed="rId5"/>
          <a:stretch/>
        </p:blipFill>
        <p:spPr>
          <a:xfrm>
            <a:off x="6072120" y="1571760"/>
            <a:ext cx="30718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15:26:03Z</dcterms:created>
  <dc:creator>Катя</dc:creator>
  <dc:description/>
  <dc:language>en-US</dc:language>
  <cp:lastModifiedBy>Пользователь</cp:lastModifiedBy>
  <dcterms:modified xsi:type="dcterms:W3CDTF">2010-05-23T12:39:14Z</dcterms:modified>
  <cp:revision>5</cp:revision>
  <dc:subject/>
  <dc:title>Пятиконечные и другие звезды. </dc:title>
</cp:coreProperties>
</file>